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D95C-E9C6-4E54-8E92-4926124E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EE8-2C06-4446-B282-834C8738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A1B2-46B5-443A-8D77-6724CD24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4FF-2165-4D47-A3A1-A860BCFE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9B3-9FE2-4028-AC95-EB493619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A286-7517-4B17-82C7-C401EA96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5D1-F034-48AF-9BD6-46B95FBB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55F5-2D87-4CDF-AAD1-19F82F50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02A-45E1-40FE-8B11-05FB5CBB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92D1-7ADD-46EA-ABD6-CED43A48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1142-2F89-4662-8FE6-64CDD70C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971-6230-4475-8CC9-EB7F6CBC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7519-DA0C-4E82-B27D-88898ED88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20806800">
            <a:off x="611280" y="105264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Eras Bold ITC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Eras Bold ITC"/>
              </a:rPr>
              <a:t>Elle avait raison.  Il n’y avait pas d’issue” – p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806800">
            <a:off x="900000" y="335772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Eras Bold ITC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Eras Bold ITC"/>
              </a:rPr>
              <a:t>Je me suis souvenu alors de ce que disait l’infirmière à l’enterrement de maman.  Non, il n’y avait pas d’issue et personne ne peut imaginer ce que sont les soirs dans les prisons” – p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8:06:33Z</dcterms:created>
  <dc:creator>Steve Badger</dc:creator>
  <dc:description/>
  <dc:language>en-US</dc:language>
  <cp:lastModifiedBy>badgers</cp:lastModifiedBy>
  <dcterms:modified xsi:type="dcterms:W3CDTF">2006-09-28T16:14:15Z</dcterms:modified>
  <cp:revision>3</cp:revision>
  <dc:subject/>
  <dc:title>Slide 1</dc:title>
</cp:coreProperties>
</file>